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CF4-579E-431A-A86D-84C62506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211-45B7-484A-B5C6-C6BFACBD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2CA-6613-48FF-9B8C-54DF9BD4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40C-4113-4F14-84F1-0DE6ACED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726-1824-4053-824D-67228DD6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FC5-4C96-4586-B0DF-54D7A499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C58-08DE-43F6-9487-E3D3B74D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282-EF7B-4CFA-9F16-9F0921BD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703-E531-4663-BAC4-27F35AF6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8EB-1077-497C-BA79-07442721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A94-720F-4122-B453-262B6296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314-FA0E-4DFA-B79D-754629C2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FD0C-D425-4162-B549-BC734D054A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.baidu.com/i?ct=503316480&amp;z=0&amp;tn=baiduimagedetail&amp;word=%CE&#319;%C6%C9%FA%BA%CD%C0%ED%BF%C6%C9%FA&amp;in=6&amp;cl=2&amp;cm=1&amp;sc=0&amp;lm=-1&amp;pn=5&amp;rn=1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ynews.com.cn/whgc/2005-08/04/content_1179085.htm" TargetMode="External"/><Relationship Id="rId2" Type="http://schemas.openxmlformats.org/officeDocument/2006/relationships/hyperlink" Target="http://www.tynews.com.cn/whgc/2005-08/04/content_1179085.htm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passport.baidu.com/?detail&amp;aid=7&amp;default_tab=2&amp;un=%BE%AB%C1%E9%A1%E2%D3%EA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71680" y="531720"/>
            <a:ext cx="8001000" cy="579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30492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班会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82880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隶书"/>
              </a:rPr>
              <a:t>选择怎样的生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-71280"/>
            <a:ext cx="7086600" cy="70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587520"/>
            <a:ext cx="845820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417600"/>
            <a:ext cx="815364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81080"/>
            <a:ext cx="807696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76960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-90360"/>
            <a:ext cx="7086600" cy="70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595440"/>
            <a:ext cx="838224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561960"/>
            <a:ext cx="84582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5438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1680" y="531720"/>
            <a:ext cx="8001000" cy="579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11430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你对目前的学习生活满意吗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1680" y="531720"/>
            <a:ext cx="8001000" cy="579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457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今天的生活怎么样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819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今后的生活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么样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-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457200"/>
            <a:ext cx="8610480" cy="3050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且说文理分科，天下大势已定，学文的脱离了理化生三片题海，学理的甩掉了政史地三座大山，那叫一个字——爽！自然，学文学理，各有各的爽法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文科生的口号：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我思故我在！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5400"/>
            </a:b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理科生的口号：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我猛故我在！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（猛为我班班训，意为拼命做题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914400"/>
            <a:ext cx="733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文科生上理科课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晕头转向。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理科生上文科课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天昏地暗（此有两解，一为睡得不省人事，二为猛得头也不抬）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0720" y="205740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文科生在家的烦恼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这么闲，做点什么好呢？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理科生在家的烦恼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这么多本习题，什么时候能做完呢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227120" y="3017880"/>
            <a:ext cx="6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科生的双休日：读书、踏青、放风筝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理科生的双休日：做题、补课、搞竞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5335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科生的价值观：活着是为了吃饭，生命在于过程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理科生的价值观：吃饭是为了活着，生命在于目标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理科老师在文科班说的话：“不要搞太深，对你们没有太高要求。”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科老师在理科班说的话：“一定要注意听，别说‘会考’，就是以后考研也要考文科。”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科生跷理科课的理由：那么枯燥，不如出去体验生活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理科生跷文科课的理由：浪费时间，不如在家多做几道题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科生在理科课上被提问的第一个反应：把桌上的书收进抽屉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理科生在文科课上被提问的第一个反应：把上课的书从书包里掏出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0120" y="380880"/>
            <a:ext cx="1177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1680" y="531720"/>
            <a:ext cx="8001000" cy="579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480" y="68580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隶书"/>
              </a:rPr>
              <a:t>文科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72720" y="68580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隶书"/>
              </a:rPr>
              <a:t>理科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5146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你的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隶书"/>
              </a:rPr>
              <a:t>选择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5880" y="1371600"/>
            <a:ext cx="4569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理由</a:t>
            </a:r>
            <a:r>
              <a:rPr b="1" i="1" lang="zh-CN" sz="9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	</a:t>
            </a:r>
            <a:r>
              <a:rPr b="1" i="1" lang="zh-CN" sz="9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	</a:t>
            </a:r>
            <a:r>
              <a:rPr b="0" lang="zh-CN" sz="96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 </a:t>
            </a:r>
            <a:r>
              <a:rPr b="1" i="1" lang="zh-CN" sz="9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</a:t>
            </a:r>
            <a:r>
              <a:rPr b="1" i="1" lang="zh-CN" sz="9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w</a:t>
            </a:r>
            <a:r>
              <a:rPr b="1" i="1" lang="zh-CN" sz="9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h</a:t>
            </a:r>
            <a:r>
              <a:rPr b="1" i="1" lang="zh-CN" sz="96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y</a:t>
            </a:r>
            <a:r>
              <a:rPr b="1" i="1" lang="zh-CN" sz="9600" spc="-1" strike="noStrike">
                <a:solidFill>
                  <a:srgbClr val="1ee2a5"/>
                </a:solidFill>
                <a:latin typeface="Times New Roman"/>
                <a:ea typeface="华文行楷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380880"/>
            <a:ext cx="3305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304920" y="60948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知道什么是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文科理科吗？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对他们了解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多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480060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_x000b__x000c_"/>
              </a:rPr>
              <a:t>中国目前的高考分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文、理</a:t>
            </a:r>
            <a:r>
              <a:rPr b="0" lang="zh-CN" sz="3200" spc="-1" strike="noStrike">
                <a:solidFill>
                  <a:srgbClr val="000000"/>
                </a:solidFill>
                <a:latin typeface="_x000b__x000c_"/>
              </a:rPr>
              <a:t>两科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66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文科考语文、数学、英语、政治、历史、地理六科，理科考语文、数学、英语、物理、化学、生物六科。语、数、英各一套卷子，考三场六个半小时，合计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450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政史地合为一套卷子，称作“文科综合”，又叫“</a:t>
            </a:r>
            <a:r>
              <a:rPr b="1" lang="zh-CN" sz="3600" spc="-1" strike="noStrike">
                <a:solidFill>
                  <a:srgbClr val="0000ff"/>
                </a:solidFill>
                <a:latin typeface="_x000b__x000c_"/>
              </a:rPr>
              <a:t>文综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”，考两个半小时，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理化生合为一套卷子，称作“理科综合”，又叫“</a:t>
            </a:r>
            <a:r>
              <a:rPr b="1" lang="zh-CN" sz="3600" spc="-1" strike="noStrike">
                <a:solidFill>
                  <a:srgbClr val="0000ff"/>
                </a:solidFill>
                <a:latin typeface="_x000b__x000c_"/>
              </a:rPr>
              <a:t>理综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”，考两个半小时，也是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228600"/>
            <a:ext cx="78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穷人孩子的真实生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45720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根据近年来对高考情况的有关报道，理科生的高考成绩差距很大，最高达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730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分，最低只有几十分；文科生的高考成绩差距不大，最高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670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分左右，最低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300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分左右。理科一本、二本、三本的录取分数线分别为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520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分、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470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分和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420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分左右；文科一本、二本、三本的录取分数线分别为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510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分、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480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分和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450</a:t>
            </a: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分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762120"/>
            <a:ext cx="7467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理科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文科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区别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80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_x000b__x000c_"/>
              </a:rPr>
              <a:t>语文和英语两份考卷文、理科完全相同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_x000b__x000c_"/>
              </a:rPr>
              <a:t>数学考卷中有</a:t>
            </a:r>
            <a:r>
              <a:rPr b="0" lang="zh-CN" sz="5400" spc="-1" strike="noStrike">
                <a:solidFill>
                  <a:srgbClr val="0000ff"/>
                </a:solidFill>
                <a:latin typeface="_x000b__x000c_"/>
              </a:rPr>
              <a:t>70%</a:t>
            </a:r>
            <a:r>
              <a:rPr b="0" lang="zh-CN" sz="5400" spc="-1" strike="noStrike">
                <a:solidFill>
                  <a:srgbClr val="000000"/>
                </a:solidFill>
                <a:latin typeface="_x000b__x000c_"/>
              </a:rPr>
              <a:t>的内容相同，</a:t>
            </a:r>
            <a:r>
              <a:rPr b="0" lang="zh-CN" sz="5400" spc="-1" strike="noStrike">
                <a:solidFill>
                  <a:srgbClr val="0000ff"/>
                </a:solidFill>
                <a:latin typeface="_x000b__x000c_"/>
              </a:rPr>
              <a:t>30%</a:t>
            </a:r>
            <a:r>
              <a:rPr b="0" lang="zh-CN" sz="5400" spc="-1" strike="noStrike">
                <a:solidFill>
                  <a:srgbClr val="000000"/>
                </a:solidFill>
                <a:latin typeface="_x000b__x000c_"/>
              </a:rPr>
              <a:t>不同，文科生必做的题目比理科生必做的题目稍微简单一些。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9144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_x000b__x000c_"/>
              </a:rPr>
              <a:t>现在重点大学的许多专业都是文理不分家的，录取时只要成绩高，文、理科考生兼收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04920" y="-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762120"/>
            <a:ext cx="838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高考时理科学生可以报大多数的文科专业，而文科学生只能报文科专业。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 大学毕业找工作时，理科学生就业率比文科学生高。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考研理工科录取率是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40%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，文科是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10%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201080" cy="502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6094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_x000b__x000c_"/>
              </a:rPr>
              <a:t>美国的中学和大学对文科的强调绝对超过理科，绝大部分的大学校长都是文科出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762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现在是高一的学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面对高二的文理分科我真是不知道该如何选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与文科我又不是很喜欢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而对于理科有没那么的聪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反正都是差不多的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于我该如何选择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谢谢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66"/>
                </a:solidFill>
                <a:latin typeface="Arial"/>
              </a:rPr>
              <a:t>                         </a:t>
            </a:r>
            <a:r>
              <a:rPr b="0" lang="zh-CN" sz="4000" spc="-1" strike="noStrike">
                <a:solidFill>
                  <a:srgbClr val="666666"/>
                </a:solidFill>
                <a:latin typeface="Arial"/>
              </a:rPr>
              <a:t>网友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提问者：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精灵♀雨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457200"/>
            <a:ext cx="838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知你是男是女，如果是男孩：想在大学找对象容易些就选文科，什么都容易就是背，为了以后的幸福，背几篇文章还是值得的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选择理科的理由就是，可以学到一种思维模式，对你的事业是很有好处的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网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7621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女孩：想在大学找对象容易些就选理科，唯一的困难就是，理科女生学起来比较吃力，没长那根劲，不过是可以用努力补来的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选择文科的理由是，女孩还是在办公室比较合适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网友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4572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般来说，语文数学和外语比较好，理科综合一般的人，选文科是最合适的；特长生也以文科为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各门成绩比较平均，理科综合不特差，语文数学外语没有特别优势的话，还是留理科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实说实话，除了语文数学外语好的、或是对政治历史地理有特殊爱好的人以外，为逃避理科而读文科的，没有一个学得怎么好的。而且文科高端的竞争也很激烈，好学校好专业更少，不要轻易选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5791320"/>
            <a:ext cx="815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8400" y="380880"/>
            <a:ext cx="1826280" cy="67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穷人孩子的真实生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8915400" cy="914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914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最重要的是要看你对什么感兴趣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网友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3526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以后想当什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比如医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就学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毕竟学习是为了美好的未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网友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8915400" cy="914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457200"/>
            <a:ext cx="7696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其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知物理好不好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话是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.....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很简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因为就算你读了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【物理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则对大家都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大家都简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】你应该问的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物理对于你而言学起来如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而这个问题是关于你自己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因此要问你自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己才最了解自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—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网友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891540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3049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要看你个人的爱好了。我自己是一名学习理科的。我认为学习理科比较好，我这人天生的做不住，喜欢捣腾点小东西，研究的什么？同时我认为学习文科，太痛苦了，没事就是看看书，写写东西，没一点意思。这是我个人的认为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个人对于理科和文科的认识，不要听别人说，应该综合自身的性格和条件决定，什么适合自己就学什么，喜欢就好，没有什么理由的。有也是片面的，不一定适合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网友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891540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45720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觉得那要看你现在成绩不好的原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果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思维敏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只是贪玩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那么选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果不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也跟着在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没有什么好的学习方法习惯而成绩平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那就选文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毕竟虽然文科不能说是贝多芬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背多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但文科要比理科死一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轻松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有考试前累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要看你自己的情况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了解你的人没有办法替你选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网友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8915400" cy="914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5335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高二时候很喜欢文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但至少在中国，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理科高校选择面很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理科学生同样可以选择文科专业。有利于个人在未来的发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所以我忍痛割爱选了理科，实质就是当作敲门砖。在高考后我填了文科专业，满足了自己的爱好。但愿能对你会有所启发 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理科重逻辑思维，文科重才思理解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自己好好把握吧，祝你成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网友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8915400" cy="91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228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对理工感兴趣，并且有明确目标，那就选理。如果没什么主意，成绩也不是很好，还是选文比较保险。文科学习的都是基础的人文知识，今后无论做什么都有用的。虽然考试比较辛苦，但从长期的发展上来讲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选文比较实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另外，你如果有自己的目标，就不用管这么多了。假如无所谓，只想有大学上，不妨参考一下你们当地的高考录取情况。文科和理科哪一个录取比例（就是高校录取人数粘考生的比例）高，胜算就大一些。无论选什么，都一定要坚持努力学习。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8915400" cy="914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8380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理科还是学文科决定性的原因之一是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爱好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；其次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受到周围环境的影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；应该不分男生女生的，学理科逻辑思维能力比较强，有助于挖掘更深奥的东西，学到更深层的知识，只要努力和持以恒心，女生也可以学好理科，理科不专门为男生而设，文科也不专门为女生而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771640" y="2133720"/>
            <a:ext cx="4032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544680"/>
            <a:ext cx="8610480" cy="5821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81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15:52Z</dcterms:modified>
  <cp:revision>8</cp:revision>
  <dc:subject>主题班会课件(分28大类): http://shop62905894.taobao.com</dc:subject>
  <dc:title>主题班会课件(分28大类): http://shop62905894.taobao.com</dc:title>
</cp:coreProperties>
</file>